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287-0F8C-4670-9079-875DCD16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546-166E-4B97-9280-564FE54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F7A-87CC-42D2-96B3-7B637207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166-6954-4165-811F-EE16594F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F67-426E-4ACE-A2B4-8BC8FB1E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DCA-842E-4105-9F80-D70110D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181-AAD4-4DC5-84F4-87FDE24C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0E4-B043-4FA2-8770-E6F2A02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AD4-09F6-4846-B473-60310E2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145-26DB-4CB1-A38F-1D2BB22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540-DEEC-4693-B59D-2B38932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245-8B00-41F6-9AB5-B8DFDB6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2DD-F6ED-462E-8B1B-E1F1AAB0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Angles – Al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ive the correct answer to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specify when an answer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55840" y="2225520"/>
          <a:ext cx="3825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225520"/>
                    <a:ext cx="3825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55920" y="2075040"/>
          <a:ext cx="3624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4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4920" y="2075040"/>
          <a:ext cx="4329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075040"/>
                    <a:ext cx="4329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52640" y="1219320"/>
          <a:ext cx="4630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0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55760" y="1219320"/>
          <a:ext cx="4025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5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54160" y="2075040"/>
          <a:ext cx="4429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2075040"/>
                    <a:ext cx="4429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203480" y="2075040"/>
          <a:ext cx="4330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075040"/>
                    <a:ext cx="4330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04800" y="2125800"/>
          <a:ext cx="37245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125800"/>
                    <a:ext cx="37245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04800" y="2225520"/>
          <a:ext cx="37260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225520"/>
                    <a:ext cx="3726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52360" y="2075040"/>
          <a:ext cx="44323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75040"/>
                    <a:ext cx="44323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048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03400" y="1219320"/>
          <a:ext cx="4532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2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555920" y="2075040"/>
          <a:ext cx="3624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4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06600" y="2225520"/>
          <a:ext cx="37242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2225520"/>
                    <a:ext cx="37242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06680" y="2075040"/>
          <a:ext cx="35226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26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55600" y="2075040"/>
          <a:ext cx="4429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2075040"/>
                    <a:ext cx="4429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03400" y="1219320"/>
          <a:ext cx="452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2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6520" y="1219320"/>
          <a:ext cx="39243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1219320"/>
                    <a:ext cx="3924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54040" y="2125800"/>
          <a:ext cx="382608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2125800"/>
                    <a:ext cx="3826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03480" y="2075040"/>
          <a:ext cx="4329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075040"/>
                    <a:ext cx="4329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04800" y="2075040"/>
          <a:ext cx="3726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075040"/>
                    <a:ext cx="3726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541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52360" y="1219320"/>
          <a:ext cx="4432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219320"/>
                    <a:ext cx="4432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4880" y="2075040"/>
          <a:ext cx="35244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075040"/>
                    <a:ext cx="35244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5:50Z</dcterms:modified>
  <cp:revision>7</cp:revision>
  <dc:subject/>
  <dc:title>Slide 1</dc:title>
</cp:coreProperties>
</file>